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png" ContentType="image/png"/>
  <Override PartName="/ppt/media/image20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5.jpeg" ContentType="image/jpeg"/>
  <Override PartName="/ppt/media/image3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FE57-219B-4E44-AA25-9C965BEECA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7908-F161-4CD7-9517-B8312F365A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A0B7-CFD2-4E99-873F-DC980D162A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02FC-C97B-4BED-8F5B-98D541EDA8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22A7-A88F-4B0C-9A3F-D4C9008610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8D43-7E70-4DF6-BE15-5F71371534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53A9-B3B7-417D-84EB-6E63D0EB37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48E1-5885-4351-AEBF-848E315BAF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585A-D58F-4EB5-A5AF-4D4D5B92FF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81B8-EDD3-440E-B0BA-818DC04DD7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69F2-9C27-4E32-BB50-F2BC2E6A1B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5114-1EC4-4851-83C5-8EC5AD1A10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26DE-4F19-4B5B-B02F-3350E7F280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CE84-59F6-41F0-87E2-022097D976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E12B-E71B-4070-9BDB-3F5BE2588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596F-C724-4A27-A588-019B85496C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A734-DB47-4533-BD1D-7FECE18623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B326-619C-47E5-8463-8CAE04CFBE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027D-E366-4B6C-BC10-DE4775A0EB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191C-2F31-4C9C-A6C6-C9AB968B95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8431-1299-4EC6-B1D5-4FD6D3771E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6CD9-C513-46E1-8161-9092C43E87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7088-2CCC-4BE0-B9B7-A1216031CE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4723-DFE8-432E-99CF-95857306AE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42E8-B80B-4E9C-AC02-693E2831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21D2-834D-4D43-BDB6-D6A3B24B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AF6F-1151-494F-992D-11DB178C5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A7BF-7C4C-41D8-98E1-DD07BC9A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502C-0EE4-4DD4-9FC0-7961BEE1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4AD8-5686-4871-BA30-2B46BEB1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8B88-801B-40DB-89FA-E636D187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5AE3-A7D1-482F-92A5-35628B7E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8A1A-F0F2-4A00-B7BF-A38335D8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C0A0-A580-4CDF-825E-903E07D7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8E62-05D6-4C5C-9C97-AFEAEDF3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D9F0-29C7-4AAC-8760-639C1C0A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187E-6C53-452A-88A6-41465956E9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file:///momCalf_SndAndPathsAndSonogramCalls90sec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beamreach.org/" TargetMode="External"/><Relationship Id="rId2" Type="http://schemas.openxmlformats.org/officeDocument/2006/relationships/hyperlink" Target="http://beamreach.org/071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atial confirmation of vocal communication between a killer whale calf and its natal famil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Val Veirs – Colorado Colle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Scott Veirs – Beam Re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Jason Wood – Beam Re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066680" y="57913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ssion 3aABb3    Wed July 2, 2008     Acoustics ‘08     Paris,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inematically Reasonable Whale Path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rder to separate these localized calls into those of J-34, the calf that approached us, and its mother (J-22) and/or brother (J-24), we constructed velocity profiles that minimized changes in velocity and limited velocity to slow travel speeds as this is what we observed during this encounter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-38 –”Cookie’s” Pa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Content Placeholder 3" descr="calfSpeedGraph.jpeg"/>
          <p:cNvPicPr/>
          <p:nvPr/>
        </p:nvPicPr>
        <p:blipFill>
          <a:blip r:embed="rId1"/>
          <a:stretch/>
        </p:blipFill>
        <p:spPr>
          <a:xfrm>
            <a:off x="685800" y="1600200"/>
            <a:ext cx="2657520" cy="4525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alfDistanceCompare.jpeg"/>
          <p:cNvPicPr/>
          <p:nvPr/>
        </p:nvPicPr>
        <p:blipFill>
          <a:blip r:embed="rId2"/>
          <a:stretch/>
        </p:blipFill>
        <p:spPr>
          <a:xfrm>
            <a:off x="4038480" y="1600200"/>
            <a:ext cx="4380120" cy="441972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6248520" y="426708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Distance derived from Calf’s “X” velocity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4724280" y="2590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Distance derived from Calf’s “Y” velocity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533520" y="60199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lf’s velocity vector relative to the Gato Verde vs.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h of J-22 (“Oreo”) and J-32 (“DoubleStuf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whales traveling toge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Content Placeholder 3" descr="momSpeedGraph.jpeg"/>
          <p:cNvPicPr/>
          <p:nvPr/>
        </p:nvPicPr>
        <p:blipFill>
          <a:blip r:embed="rId1"/>
          <a:stretch/>
        </p:blipFill>
        <p:spPr>
          <a:xfrm>
            <a:off x="914400" y="1523880"/>
            <a:ext cx="2657520" cy="4525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momDistanceCompare.jpeg"/>
          <p:cNvPicPr/>
          <p:nvPr/>
        </p:nvPicPr>
        <p:blipFill>
          <a:blip r:embed="rId2"/>
          <a:stretch/>
        </p:blipFill>
        <p:spPr>
          <a:xfrm>
            <a:off x="4572000" y="2057400"/>
            <a:ext cx="3657600" cy="36910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380880" y="60958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ther and brother’s velocity vector relative to the Gato Verde vs.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4952880" y="39625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Distance derived from “X” velocity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5334120" y="2590920"/>
            <a:ext cx="213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Distance derived from “Y” velocity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preted orca pa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Content Placeholder 5" descr="VelocityConstrainedPaths.jpg"/>
          <p:cNvPicPr/>
          <p:nvPr/>
        </p:nvPicPr>
        <p:blipFill>
          <a:blip r:embed="rId1"/>
          <a:stretch/>
        </p:blipFill>
        <p:spPr>
          <a:xfrm>
            <a:off x="2297160" y="1600200"/>
            <a:ext cx="4484520" cy="45259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"/>
          <p:cNvSpPr/>
          <p:nvPr/>
        </p:nvSpPr>
        <p:spPr>
          <a:xfrm>
            <a:off x="4648320" y="30481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ther and br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5715000" y="42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3200400" y="1219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or coded to denot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3048120" y="3429000"/>
            <a:ext cx="1371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ere calf was vocalizing while mother and brother were sil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Straight Arrow Connector 11"/>
          <p:cNvCxnSpPr/>
          <p:nvPr/>
        </p:nvCxnSpPr>
        <p:spPr>
          <a:xfrm>
            <a:off x="4190760" y="4267080"/>
            <a:ext cx="61020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/>
          <a:srcRect l="22000" t="32934" r="29500" b="3293"/>
          <a:stretch/>
        </p:blipFill>
        <p:spPr>
          <a:xfrm>
            <a:off x="1447920" y="1066680"/>
            <a:ext cx="6202080" cy="49532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5 Minutes of Call and Resp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124080" y="6095520"/>
            <a:ext cx="24386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lay mov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lf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Content Placeholder 3" descr="calfCalls.jpg"/>
          <p:cNvPicPr/>
          <p:nvPr/>
        </p:nvPicPr>
        <p:blipFill>
          <a:blip r:embed="rId1"/>
          <a:stretch/>
        </p:blipFill>
        <p:spPr>
          <a:xfrm>
            <a:off x="2328840" y="1600200"/>
            <a:ext cx="4486320" cy="4525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gatoVerdeTowing.jpg"/>
          <p:cNvPicPr/>
          <p:nvPr/>
        </p:nvPicPr>
        <p:blipFill>
          <a:blip r:embed="rId2"/>
          <a:srcRect l="0" t="0" r="16744" b="48360"/>
          <a:stretch/>
        </p:blipFill>
        <p:spPr>
          <a:xfrm>
            <a:off x="6019920" y="4800600"/>
            <a:ext cx="58104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her/Brother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Content Placeholder 3" descr="callsMomToCalf.jpeg"/>
          <p:cNvPicPr/>
          <p:nvPr/>
        </p:nvPicPr>
        <p:blipFill>
          <a:blip r:embed="rId1"/>
          <a:stretch/>
        </p:blipFill>
        <p:spPr>
          <a:xfrm>
            <a:off x="2328840" y="1600200"/>
            <a:ext cx="4486320" cy="4525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gatoVerdeTowing.jpg"/>
          <p:cNvPicPr/>
          <p:nvPr/>
        </p:nvPicPr>
        <p:blipFill>
          <a:blip r:embed="rId2"/>
          <a:srcRect l="0" t="0" r="16744" b="48360"/>
          <a:stretch/>
        </p:blipFill>
        <p:spPr>
          <a:xfrm>
            <a:off x="6019920" y="4800600"/>
            <a:ext cx="58104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ca Commun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Content Placeholder 3" descr="callsBoth.jpg"/>
          <p:cNvPicPr/>
          <p:nvPr/>
        </p:nvPicPr>
        <p:blipFill>
          <a:blip r:embed="rId1"/>
          <a:stretch/>
        </p:blipFill>
        <p:spPr>
          <a:xfrm>
            <a:off x="2328840" y="1600200"/>
            <a:ext cx="448632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gatoVerdeTowing.jpg"/>
          <p:cNvPicPr/>
          <p:nvPr/>
        </p:nvPicPr>
        <p:blipFill>
          <a:blip r:embed="rId2"/>
          <a:srcRect l="0" t="0" r="16744" b="48360"/>
          <a:stretch/>
        </p:blipFill>
        <p:spPr>
          <a:xfrm>
            <a:off x="6019920" y="4800600"/>
            <a:ext cx="58104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lf’s Calls Near the Arr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Content Placeholder 3" descr="calls_calfToMomZoom.jpg"/>
          <p:cNvPicPr/>
          <p:nvPr/>
        </p:nvPicPr>
        <p:blipFill>
          <a:blip r:embed="rId1"/>
          <a:stretch/>
        </p:blipFill>
        <p:spPr>
          <a:xfrm>
            <a:off x="1876320" y="1600200"/>
            <a:ext cx="5391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ll and Respons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Content Placeholder 3" descr="callsBothZoom.jpg"/>
          <p:cNvPicPr/>
          <p:nvPr/>
        </p:nvPicPr>
        <p:blipFill>
          <a:blip r:embed="rId1"/>
          <a:stretch/>
        </p:blipFill>
        <p:spPr>
          <a:xfrm>
            <a:off x="1905120" y="1828800"/>
            <a:ext cx="5391000" cy="45259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/>
          <p:cNvSpPr/>
          <p:nvPr/>
        </p:nvSpPr>
        <p:spPr>
          <a:xfrm>
            <a:off x="380880" y="11430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Cal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ther/Bro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: S2i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S2ii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S6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S2ii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x5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[S2ii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6] S6 S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2ii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2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ause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S2ii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S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??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S6 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??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S6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12 S2ii 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S2ii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x3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2ii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S2ii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x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[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S2ii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2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3" descr="geoRange.jpg"/>
          <p:cNvPicPr/>
          <p:nvPr/>
        </p:nvPicPr>
        <p:blipFill>
          <a:blip r:embed="rId1"/>
          <a:stretch/>
        </p:blipFill>
        <p:spPr>
          <a:xfrm>
            <a:off x="6477120" y="1447920"/>
            <a:ext cx="243180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sident Killer Whale Family Struc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0880" y="1447920"/>
            <a:ext cx="6096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te fidelity year to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alize on foraging for fi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eny never leave their m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ents are inter-related matriarchal fami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calizations are complex and frequ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calizations form a vocal ‘clan’ unique to geographic reg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sincerely thank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 researchers of the fall 2007 class, Beam Reach Marine Science and Sustainability School (including Kenna Lehmann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ptains Todd Shuster and Mike Kra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. Shannon Fow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information and research results a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beamreach.or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beamreach.org/07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ocalization – Crosspower spectra and Hyperbolic interse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Content Placeholder 3" descr="crossCorrelations.jpg"/>
          <p:cNvPicPr/>
          <p:nvPr/>
        </p:nvPicPr>
        <p:blipFill>
          <a:blip r:embed="rId1"/>
          <a:stretch/>
        </p:blipFill>
        <p:spPr>
          <a:xfrm>
            <a:off x="1066680" y="1676520"/>
            <a:ext cx="3735360" cy="452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localizationDetails.jpg"/>
          <p:cNvPicPr/>
          <p:nvPr/>
        </p:nvPicPr>
        <p:blipFill>
          <a:blip r:embed="rId2"/>
          <a:stretch/>
        </p:blipFill>
        <p:spPr>
          <a:xfrm>
            <a:off x="5105520" y="2362320"/>
            <a:ext cx="380988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3530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uthern Resident Orc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Content Placeholder 3" descr="geoRange.jpg"/>
          <p:cNvPicPr/>
          <p:nvPr/>
        </p:nvPicPr>
        <p:blipFill>
          <a:blip r:embed="rId1"/>
          <a:stretch/>
        </p:blipFill>
        <p:spPr>
          <a:xfrm>
            <a:off x="4800600" y="228600"/>
            <a:ext cx="2432160" cy="4525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orcaDaysGraph.jpg"/>
          <p:cNvPicPr/>
          <p:nvPr/>
        </p:nvPicPr>
        <p:blipFill>
          <a:blip r:embed="rId2"/>
          <a:stretch/>
        </p:blipFill>
        <p:spPr>
          <a:xfrm>
            <a:off x="0" y="3809880"/>
            <a:ext cx="9144000" cy="27352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5"/>
          <p:cNvSpPr/>
          <p:nvPr/>
        </p:nvSpPr>
        <p:spPr>
          <a:xfrm>
            <a:off x="304920" y="213372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nter Range – Monterey Bay to Quee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rlotte Is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mmer Range – Inland waters of Puge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nd and southern Georgi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ait – the Salish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914400" y="6019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lish Sea Sigh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4952880" y="76320"/>
            <a:ext cx="2514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ap derived from NOAA Recovery Plan Jan. 20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6705720" y="6019920"/>
            <a:ext cx="2286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raph from the Whale Museum Sightings Databa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am Reach Researchers 9/1/200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8" descr="smallred.jpg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444312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6477120" y="3200400"/>
            <a:ext cx="198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n Juan Island, Washing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Straight Arrow Connector 6"/>
          <p:cNvCxnSpPr/>
          <p:nvPr/>
        </p:nvCxnSpPr>
        <p:spPr>
          <a:xfrm>
            <a:off x="3276360" y="3657600"/>
            <a:ext cx="99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8" name="TextBox 9"/>
          <p:cNvSpPr/>
          <p:nvPr/>
        </p:nvSpPr>
        <p:spPr>
          <a:xfrm>
            <a:off x="3276720" y="3276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 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12"/>
          <p:cNvCxnSpPr/>
          <p:nvPr/>
        </p:nvCxnSpPr>
        <p:spPr>
          <a:xfrm flipV="1">
            <a:off x="6552000" y="3504960"/>
            <a:ext cx="25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0" name="Straight Arrow Connector 14"/>
          <p:cNvCxnSpPr/>
          <p:nvPr/>
        </p:nvCxnSpPr>
        <p:spPr>
          <a:xfrm flipH="1">
            <a:off x="4114080" y="3583080"/>
            <a:ext cx="2361240" cy="303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"/>
          <p:cNvPicPr/>
          <p:nvPr/>
        </p:nvPicPr>
        <p:blipFill>
          <a:blip r:embed="rId3"/>
          <a:stretch/>
        </p:blipFill>
        <p:spPr>
          <a:xfrm>
            <a:off x="3124080" y="5791320"/>
            <a:ext cx="152892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"/>
          <p:cNvPicPr/>
          <p:nvPr/>
        </p:nvPicPr>
        <p:blipFill>
          <a:blip r:embed="rId4"/>
          <a:stretch/>
        </p:blipFill>
        <p:spPr>
          <a:xfrm>
            <a:off x="1828800" y="2971800"/>
            <a:ext cx="571680" cy="431640"/>
          </a:xfrm>
          <a:prstGeom prst="rect">
            <a:avLst/>
          </a:prstGeom>
          <a:ln w="0">
            <a:noFill/>
          </a:ln>
        </p:spPr>
      </p:pic>
      <p:cxnSp>
        <p:nvCxnSpPr>
          <p:cNvPr id="64" name="Straight Arrow Connector 21"/>
          <p:cNvCxnSpPr/>
          <p:nvPr/>
        </p:nvCxnSpPr>
        <p:spPr>
          <a:xfrm>
            <a:off x="2362320" y="3352320"/>
            <a:ext cx="876960" cy="623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5" name="Picture 14" descr=""/>
          <p:cNvPicPr/>
          <p:nvPr/>
        </p:nvPicPr>
        <p:blipFill>
          <a:blip r:embed="rId5"/>
          <a:stretch/>
        </p:blipFill>
        <p:spPr>
          <a:xfrm>
            <a:off x="4800600" y="5791320"/>
            <a:ext cx="137160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Members of J-P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ontent Placeholder 4" descr="J22sFamily.jpg"/>
          <p:cNvPicPr/>
          <p:nvPr/>
        </p:nvPicPr>
        <p:blipFill>
          <a:blip r:embed="rId1"/>
          <a:stretch/>
        </p:blipFill>
        <p:spPr>
          <a:xfrm>
            <a:off x="514440" y="1600200"/>
            <a:ext cx="811512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6705720" y="4419720"/>
            <a:ext cx="9903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6248520" y="5334120"/>
            <a:ext cx="220968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7696080" y="53341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J-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ook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5943600" y="5334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J-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ublest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6477120" y="4343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J-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to Verde Research Vess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ontent Placeholder 3" descr="gatoVerde_800pix.jpg"/>
          <p:cNvPicPr/>
          <p:nvPr/>
        </p:nvPicPr>
        <p:blipFill>
          <a:blip r:embed="rId1"/>
          <a:stretch/>
        </p:blipFill>
        <p:spPr>
          <a:xfrm>
            <a:off x="1143000" y="1219320"/>
            <a:ext cx="301464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gatoVerde_recoveringHydrosSml.jpg"/>
          <p:cNvPicPr/>
          <p:nvPr/>
        </p:nvPicPr>
        <p:blipFill>
          <a:blip r:embed="rId2"/>
          <a:stretch/>
        </p:blipFill>
        <p:spPr>
          <a:xfrm>
            <a:off x="5410080" y="1676520"/>
            <a:ext cx="2743200" cy="3352680"/>
          </a:xfrm>
          <a:prstGeom prst="rect">
            <a:avLst/>
          </a:prstGeom>
          <a:ln w="0">
            <a:noFill/>
          </a:ln>
        </p:spPr>
      </p:pic>
      <p:sp>
        <p:nvSpPr>
          <p:cNvPr id="76" name="TextBox 5"/>
          <p:cNvSpPr/>
          <p:nvPr/>
        </p:nvSpPr>
        <p:spPr>
          <a:xfrm>
            <a:off x="304920" y="579132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to Verde is a 42’ Fontaine-Pajot catamaran powered by electric motors, batteries and a biodiesel electric generator – www.gatoverd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5410080" y="52578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tt and student, Tim Hunt, are deploying our 30m 4 element hydrophone arr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calizing Orca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22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ls were recorded at 50 kHz sample r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ls were localized using Ishmael and using software written by V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spectrogram.jpg"/>
          <p:cNvPicPr/>
          <p:nvPr/>
        </p:nvPicPr>
        <p:blipFill>
          <a:blip r:embed="rId1"/>
          <a:stretch/>
        </p:blipFill>
        <p:spPr>
          <a:xfrm>
            <a:off x="1371600" y="2895480"/>
            <a:ext cx="6629400" cy="3814920"/>
          </a:xfrm>
          <a:prstGeom prst="rect">
            <a:avLst/>
          </a:prstGeom>
          <a:ln w="0">
            <a:noFill/>
          </a:ln>
        </p:spPr>
      </p:pic>
      <p:pic>
        <p:nvPicPr>
          <p:cNvPr id="81" name="callResponse.wav" descr=""/>
          <p:cNvPicPr/>
          <p:nvPr/>
        </p:nvPicPr>
        <p:blipFill>
          <a:blip r:embed="rId2"/>
          <a:stretch/>
        </p:blipFill>
        <p:spPr>
          <a:xfrm>
            <a:off x="1066680" y="3962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88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eld Observations – 17:30 on 9/1/0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have been following J-pod for several ho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out 17:00 (9/1/07) the spread out pod appeared to reverse direction and start heading 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whales are several hundred meters off our beam and were photographed at 17:2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nearly 17:30 we heard louder and louder calls from the hydrophones and noticed an individual orca swimming toward our port ster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hoto of this whale was taken at 17:3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st before it seemed the whale would contact us, it turned, dove, and then surfaced ahead of us on our port quar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 the next minutes, it swam back in the direction of the more distant orc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oto Iden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ontent Placeholder 3" descr="IMG_5607cropCalfSML.jpg"/>
          <p:cNvPicPr/>
          <p:nvPr/>
        </p:nvPicPr>
        <p:blipFill>
          <a:blip r:embed="rId1"/>
          <a:stretch/>
        </p:blipFill>
        <p:spPr>
          <a:xfrm>
            <a:off x="4724280" y="1295280"/>
            <a:ext cx="3089520" cy="2248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IMG_5605_5_29_16_1orca.jpg"/>
          <p:cNvPicPr/>
          <p:nvPr/>
        </p:nvPicPr>
        <p:blipFill>
          <a:blip r:embed="rId2"/>
          <a:stretch/>
        </p:blipFill>
        <p:spPr>
          <a:xfrm>
            <a:off x="380880" y="1447920"/>
            <a:ext cx="3367080" cy="1533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IMG_5606_5_29_17orca.jpg"/>
          <p:cNvPicPr/>
          <p:nvPr/>
        </p:nvPicPr>
        <p:blipFill>
          <a:blip r:embed="rId3"/>
          <a:stretch/>
        </p:blipFill>
        <p:spPr>
          <a:xfrm>
            <a:off x="380880" y="3124080"/>
            <a:ext cx="3384720" cy="1603440"/>
          </a:xfrm>
          <a:prstGeom prst="rect">
            <a:avLst/>
          </a:prstGeom>
          <a:ln w="0">
            <a:noFill/>
          </a:ln>
        </p:spPr>
      </p:pic>
      <p:sp>
        <p:nvSpPr>
          <p:cNvPr id="88" name="TextBox 7"/>
          <p:cNvSpPr/>
          <p:nvPr/>
        </p:nvSpPr>
        <p:spPr>
          <a:xfrm>
            <a:off x="152280" y="495288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ed on our photos, we identify three orcas: the mother J-22 and her two youngsters J-34 and J-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se IDs were confirmed by staff at the Center for Whale Research on San Juan Is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IMG_5613_5_51_40orcasSML.jpg"/>
          <p:cNvPicPr/>
          <p:nvPr/>
        </p:nvPicPr>
        <p:blipFill>
          <a:blip r:embed="rId4"/>
          <a:stretch/>
        </p:blipFill>
        <p:spPr>
          <a:xfrm>
            <a:off x="4003560" y="3733920"/>
            <a:ext cx="4472280" cy="259056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>
            <a:off x="3962520" y="3657600"/>
            <a:ext cx="4572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J-22 (Oreo)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J-34 (Doublestu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calized Calls – 6 minutes @17:3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17_30_LocalizedCalls.jpg"/>
          <p:cNvPicPr/>
          <p:nvPr/>
        </p:nvPicPr>
        <p:blipFill>
          <a:blip r:embed="rId1"/>
          <a:stretch/>
        </p:blipFill>
        <p:spPr>
          <a:xfrm>
            <a:off x="685800" y="1600200"/>
            <a:ext cx="4532400" cy="4525920"/>
          </a:xfrm>
          <a:prstGeom prst="rect">
            <a:avLst/>
          </a:prstGeom>
          <a:ln w="0">
            <a:noFill/>
          </a:ln>
        </p:spPr>
      </p:pic>
      <p:sp>
        <p:nvSpPr>
          <p:cNvPr id="93" name="TextBox 5"/>
          <p:cNvSpPr/>
          <p:nvPr/>
        </p:nvSpPr>
        <p:spPr>
          <a:xfrm>
            <a:off x="5410080" y="1600200"/>
            <a:ext cx="32004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4 calls were localized using our 4-element towed hydrophone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array has a length of 40m and is towed off the port stern of the Gato Ve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locations of calls are colored based on their time in seconds after 17: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3T16:55:22Z</dcterms:created>
  <dc:creator> </dc:creator>
  <dc:description/>
  <dc:language>en-US</dc:language>
  <cp:lastModifiedBy> </cp:lastModifiedBy>
  <dcterms:modified xsi:type="dcterms:W3CDTF">2008-06-17T09:47:16Z</dcterms:modified>
  <cp:revision>24</cp:revision>
  <dc:subject/>
  <dc:title>Spatial confirmation of vocal communication between a killer whale calf and its natal family</dc:title>
</cp:coreProperties>
</file>